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BFF7-B6D1-4B51-A780-665331F943B2}" type="datetime">
              <a:rPr b="0" lang="de-DE" sz="1200" spc="-1" strike="noStrike">
                <a:solidFill>
                  <a:srgbClr val="000000"/>
                </a:solidFill>
                <a:latin typeface="Gill Sans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6B0D-8CF7-4FDE-B268-DE58F4D47B22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80F2-5B37-4822-8437-32A8FA0457B7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08057-98D5-4121-9156-1AE4B3F854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055B1-ECC0-423E-B46F-01CFA3964C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ADE54-9E1A-4C1E-8C77-9D540A25DA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E71E3-0075-4287-B0D9-38F7F856BC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96A9-8879-4851-BE4D-F97BF4AB15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5DD7-AA50-4F25-8C98-1D83970EA1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D8C4E-5162-4A04-937A-D2B9559575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E35CB-34E3-486F-9B29-7A8C224DA0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7C30-F578-4572-95EC-8AF1EE8BB40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3F05-9336-4509-A03A-017BBF1D42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F32F-AE71-43F7-8C44-7FAB19538E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A4C30-E97E-49F5-B6A5-1248A151CD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6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3"/>
          <p:cNvSpPr>
            <a:spLocks noGrp="1"/>
          </p:cNvSpPr>
          <p:nvPr>
            <p:ph type="sldNum" idx="1"/>
          </p:nvPr>
        </p:nvSpPr>
        <p:spPr>
          <a:xfrm>
            <a:off x="1268748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1E15-D8C2-49CC-9BF4-CC2467FCC5C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3.org/RDF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9C44-4466-4D2C-8BB5-D77821EBCB0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standteile von RDF-Graph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RI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ur eindeutigen Referenzierung von Ressourc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reits im Rahmen von XML behandel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tera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schreiben Datenwerte denen keine separate Existenz zukomm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lauben Existenzaussagen über ein Individuum mit gewissen Eigenschaften ohne es zu benennen 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DDE7-D2D8-43A2-9B6E-D240F62F1BE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teral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r Repräsentation von Datenwer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rstellung als Zeichenket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terpretation erfolgt durch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typ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terale ohne Datentyp werden wie Zeichenketten behandel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1"/>
          <a:stretch/>
        </p:blipFill>
        <p:spPr>
          <a:xfrm>
            <a:off x="2565360" y="6870600"/>
            <a:ext cx="9221760" cy="1990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3144-A9A6-4C07-8C9D-660C48E2351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raph als Menge von Tripel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schiedene Darstellungsmöglichkeiten für Graph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er verwendet: Liste von (Knoten-Kante-Knoten)-Tripel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52" name="Picture 4" descr=""/>
          <p:cNvPicPr/>
          <p:nvPr/>
        </p:nvPicPr>
        <p:blipFill>
          <a:blip r:embed="rId1"/>
          <a:srcRect l="0" t="7583" r="0" b="61242"/>
          <a:stretch/>
        </p:blipFill>
        <p:spPr>
          <a:xfrm>
            <a:off x="330120" y="6019920"/>
            <a:ext cx="12314160" cy="841320"/>
          </a:xfrm>
          <a:prstGeom prst="rect">
            <a:avLst/>
          </a:prstGeom>
          <a:ln w="0">
            <a:noFill/>
          </a:ln>
        </p:spPr>
      </p:pic>
      <p:grpSp>
        <p:nvGrpSpPr>
          <p:cNvPr id="453" name="Group 5"/>
          <p:cNvGrpSpPr/>
          <p:nvPr/>
        </p:nvGrpSpPr>
        <p:grpSpPr>
          <a:xfrm>
            <a:off x="393840" y="6032520"/>
            <a:ext cx="5058360" cy="2349000"/>
            <a:chOff x="393840" y="6032520"/>
            <a:chExt cx="5058360" cy="2349000"/>
          </a:xfrm>
        </p:grpSpPr>
        <p:pic>
          <p:nvPicPr>
            <p:cNvPr id="454" name="Picture 6" descr=""/>
            <p:cNvPicPr/>
            <p:nvPr/>
          </p:nvPicPr>
          <p:blipFill>
            <a:blip r:embed="rId2"/>
            <a:srcRect l="1003" t="8498" r="64050" b="4357"/>
            <a:stretch/>
          </p:blipFill>
          <p:spPr>
            <a:xfrm>
              <a:off x="393840" y="6032520"/>
              <a:ext cx="4378680" cy="23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7" descr=""/>
            <p:cNvPicPr/>
            <p:nvPr/>
          </p:nvPicPr>
          <p:blipFill>
            <a:blip r:embed="rId3"/>
            <a:srcRect l="35555" t="42441" r="58628" b="42898"/>
            <a:stretch/>
          </p:blipFill>
          <p:spPr>
            <a:xfrm>
              <a:off x="4722480" y="6947280"/>
              <a:ext cx="72972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6" name="Group 8"/>
          <p:cNvGrpSpPr/>
          <p:nvPr/>
        </p:nvGrpSpPr>
        <p:grpSpPr>
          <a:xfrm>
            <a:off x="7399440" y="5989680"/>
            <a:ext cx="5149080" cy="2374560"/>
            <a:chOff x="7399440" y="5989680"/>
            <a:chExt cx="5149080" cy="2374560"/>
          </a:xfrm>
        </p:grpSpPr>
        <p:pic>
          <p:nvPicPr>
            <p:cNvPr id="457" name="Picture 9" descr=""/>
            <p:cNvPicPr/>
            <p:nvPr/>
          </p:nvPicPr>
          <p:blipFill>
            <a:blip r:embed="rId4"/>
            <a:srcRect l="64076" t="6668" r="775" b="5272"/>
            <a:stretch/>
          </p:blipFill>
          <p:spPr>
            <a:xfrm>
              <a:off x="8236800" y="5989680"/>
              <a:ext cx="4311720" cy="23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10" descr=""/>
            <p:cNvPicPr/>
            <p:nvPr/>
          </p:nvPicPr>
          <p:blipFill>
            <a:blip r:embed="rId5"/>
            <a:srcRect l="57245" t="43380" r="35929" b="41960"/>
            <a:stretch/>
          </p:blipFill>
          <p:spPr>
            <a:xfrm>
              <a:off x="7399440" y="6978600"/>
              <a:ext cx="837360" cy="396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5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45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2C2C-EE97-4314-9EA2-8691A42C920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-Trip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6330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standteile eines RDF-Tripels</a:t>
            </a:r>
            <a:br>
              <a:rPr sz="3500"/>
            </a:b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i="1" lang="en-US" sz="3500" spc="-1" strike="noStrike">
                <a:solidFill>
                  <a:srgbClr val="000000"/>
                </a:solidFill>
                <a:latin typeface="Helvetica Neue"/>
              </a:rPr>
              <a:t>Subjekt          Prädikat          Objekt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angelehnt an linguistische Kategorien, aber nicht immer stimmig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rlaubte Belegungen: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Subjekt : URI oder leerer Knoten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Prädikat: URI         (auch Propertys genannt)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Objekt   : URI oder leerer Knoten oder Litera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noten- und Kantenbezeichner eindeutig, daher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ursprünglicher Graph aus Tripel-Liste rekonstruierbar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62" name="Picture 3" descr=""/>
          <p:cNvPicPr/>
          <p:nvPr/>
        </p:nvPicPr>
        <p:blipFill>
          <a:blip r:embed="rId1"/>
          <a:stretch/>
        </p:blipFill>
        <p:spPr>
          <a:xfrm>
            <a:off x="1079640" y="2793960"/>
            <a:ext cx="11215440" cy="96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C273-E9B5-47BB-B676-6B895D85ECD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E55D-718A-419A-AF6B-6E744EBDB54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Syntax für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rekte Auflistung der Tripe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3: "Notation 3" - umfangreicher Formalismu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-Triples: Teil von N3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: Erweiterung von N-Triples (Abkürzung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in Turtl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RIs in spitzen Klammer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iterale in Anführungszeich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ripel durch Punkt abgeschlo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eerzeichen und Zeilenumbrüche außerhalb von Bezeichenern werden ignori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71F5-6CBB-4299-9490-F20449F26A7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urtle Syntax: Abkürz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ispie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auch in Turtle können Abkürzungen für Präfixe festgelegt werden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2" name="Picture 3" descr=""/>
          <p:cNvPicPr/>
          <p:nvPr/>
        </p:nvPicPr>
        <p:blipFill>
          <a:blip r:embed="rId1"/>
          <a:stretch/>
        </p:blipFill>
        <p:spPr>
          <a:xfrm>
            <a:off x="2095560" y="6705720"/>
            <a:ext cx="9870840" cy="25095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" descr=""/>
          <p:cNvPicPr/>
          <p:nvPr/>
        </p:nvPicPr>
        <p:blipFill>
          <a:blip r:embed="rId2"/>
          <a:stretch/>
        </p:blipFill>
        <p:spPr>
          <a:xfrm>
            <a:off x="2286000" y="2565360"/>
            <a:ext cx="9794880" cy="234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2364-42F8-4BFF-85A5-E8713DC25E5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urtle Syntax: Abkürz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mehrere Tripel mit gleichem Subjekt kann man zusammenfassen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benso Tripel mit gleichem Subjekt und Prädikat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7" name="Picture 3" descr=""/>
          <p:cNvPicPr/>
          <p:nvPr/>
        </p:nvPicPr>
        <p:blipFill>
          <a:blip r:embed="rId1"/>
          <a:stretch/>
        </p:blipFill>
        <p:spPr>
          <a:xfrm>
            <a:off x="2133720" y="3251160"/>
            <a:ext cx="10362960" cy="2556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" descr=""/>
          <p:cNvPicPr/>
          <p:nvPr/>
        </p:nvPicPr>
        <p:blipFill>
          <a:blip r:embed="rId2"/>
          <a:stretch/>
        </p:blipFill>
        <p:spPr>
          <a:xfrm>
            <a:off x="2043000" y="7404120"/>
            <a:ext cx="10547640" cy="166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AFDE-F639-44C4-88E5-AB07BE66B32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 intuitiv gut lesbar und maschinenverarbeitba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: bessere Tool-Unterstützung und Programmbibliotheken für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her: XML-Syntax am verbreitet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E3C9-1D9D-4285-9B70-207AD299851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ie in XML werden Namensräume eingesetzt, um Tagnamen zu disambiguier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-eigene tags haben einen festgelegten Na-mensraum, der Bezeichner ist standardmäßig ‘rdf’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85" name="Picture 3" descr=""/>
          <p:cNvPicPr/>
          <p:nvPr/>
        </p:nvPicPr>
        <p:blipFill>
          <a:blip r:embed="rId1"/>
          <a:stretch/>
        </p:blipFill>
        <p:spPr>
          <a:xfrm>
            <a:off x="2004840" y="4927680"/>
            <a:ext cx="10071360" cy="483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Einführung in RDF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7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3" name="Picture 12" descr=""/>
          <p:cNvPicPr/>
          <p:nvPr/>
        </p:nvPicPr>
        <p:blipFill>
          <a:blip r:embed="rId2"/>
          <a:srcRect l="3511" t="67446" r="21726" b="22809"/>
          <a:stretch/>
        </p:blipFill>
        <p:spPr>
          <a:xfrm>
            <a:off x="7670880" y="6921360"/>
            <a:ext cx="3200400" cy="4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4" name=""/>
          <p:cNvGraphicFramePr/>
          <p:nvPr/>
        </p:nvGraphicFramePr>
        <p:xfrm>
          <a:off x="687240" y="3683160"/>
          <a:ext cx="6070680" cy="505908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 und konjunktive Anfr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1.1 -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und Regel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5" name="Rectangle 63"/>
          <p:cNvSpPr/>
          <p:nvPr/>
        </p:nvSpPr>
        <p:spPr>
          <a:xfrm>
            <a:off x="647640" y="4483080"/>
            <a:ext cx="6108840" cy="43200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Rectangle 64"/>
          <p:cNvSpPr/>
          <p:nvPr/>
        </p:nvSpPr>
        <p:spPr>
          <a:xfrm>
            <a:off x="25560" y="9468000"/>
            <a:ext cx="1591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dem ersten Teil von Kapitel 3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semantic-web-grundlagen.de/index.php/Kapitel_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B681-3413-44F6-84E7-27D6C4CA369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360" y="2070000"/>
            <a:ext cx="102614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Das rdf:Description-Element kodiert das Subjekt (dessen URI wird als Wert des zugehörigen rdf:about-Attributs angegeben)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Jedes geschachtelt im rdf:Description-Element enthaltene Element steht für ein Prädikat (dessen URI ist der Elementname), das wiederum das Tripel-Objekt als rdf:Description-Element enthäl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89" name="Picture 3" descr=""/>
          <p:cNvPicPr/>
          <p:nvPr/>
        </p:nvPicPr>
        <p:blipFill>
          <a:blip r:embed="rId1"/>
          <a:srcRect l="0" t="33598" r="238" b="17845"/>
          <a:stretch/>
        </p:blipFill>
        <p:spPr>
          <a:xfrm>
            <a:off x="1003320" y="6908760"/>
            <a:ext cx="10045800" cy="23497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" descr=""/>
          <p:cNvPicPr/>
          <p:nvPr/>
        </p:nvPicPr>
        <p:blipFill>
          <a:blip r:embed="rId2"/>
          <a:stretch/>
        </p:blipFill>
        <p:spPr>
          <a:xfrm rot="5400000">
            <a:off x="7812000" y="4819680"/>
            <a:ext cx="8559720" cy="1257120"/>
          </a:xfrm>
          <a:prstGeom prst="rect">
            <a:avLst/>
          </a:prstGeom>
          <a:ln w="0">
            <a:noFill/>
          </a:ln>
        </p:spPr>
      </p:pic>
      <p:sp>
        <p:nvSpPr>
          <p:cNvPr id="491" name="Line 5"/>
          <p:cNvSpPr/>
          <p:nvPr/>
        </p:nvSpPr>
        <p:spPr>
          <a:xfrm flipH="1">
            <a:off x="10109160" y="3860640"/>
            <a:ext cx="1641600" cy="311472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Line 6"/>
          <p:cNvSpPr/>
          <p:nvPr/>
        </p:nvSpPr>
        <p:spPr>
          <a:xfrm flipH="1">
            <a:off x="4089240" y="7450200"/>
            <a:ext cx="6731280" cy="7128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Line 7"/>
          <p:cNvSpPr/>
          <p:nvPr/>
        </p:nvSpPr>
        <p:spPr>
          <a:xfrm flipH="1" flipV="1">
            <a:off x="10616760" y="7902360"/>
            <a:ext cx="1032120" cy="468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Line 8"/>
          <p:cNvSpPr/>
          <p:nvPr/>
        </p:nvSpPr>
        <p:spPr>
          <a:xfrm flipH="1">
            <a:off x="10769400" y="5349960"/>
            <a:ext cx="1539720" cy="210816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0F06-C2D6-49FB-9DF3-C22CC042A63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ngetypte Literale können als Freitext in das Prädikatelement eingeschlossen werd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e Darstellung erlaubt: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 Subjekt enthält mehrere Property-Elemen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 Objekt-Description dient als Subjekt für ein weiteres Trip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1511280" y="6095880"/>
            <a:ext cx="8039160" cy="2745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2"/>
          <a:stretch/>
        </p:blipFill>
        <p:spPr>
          <a:xfrm>
            <a:off x="5165640" y="8023320"/>
            <a:ext cx="783108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A608-B18F-4CD8-BF48-E6233E1D350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ternative (aber semantisch gleichwertige) Darstellung für Literale als XML-Attribu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ttributnamen sind dann die Property-URI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ngabe von Objekt-URIs als Wert des rdf:resource-Attributs innerhalb eines Property-Tags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165240" y="6019920"/>
            <a:ext cx="7864200" cy="19796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" descr=""/>
          <p:cNvPicPr/>
          <p:nvPr/>
        </p:nvPicPr>
        <p:blipFill>
          <a:blip r:embed="rId2"/>
          <a:stretch/>
        </p:blipFill>
        <p:spPr>
          <a:xfrm>
            <a:off x="5165640" y="8023320"/>
            <a:ext cx="783108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74A0-F594-46E3-B27E-8BA2C195E43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/XML-Syntax: Komplik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Namensräume sind essentiell (nicht nur Abkürzung), da in XML-Elementen und -Attributen keine Doppelpunkte zulässig, die keine Namensräume kodieren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Problem: in XML keine Namensräume in Attributwerten möglich (würde im Sinne eines URI-Schemas interpretiert), also z.B. verboten: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"Workaround" via XML-Entitäten: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Deklaration:</a:t>
            </a:r>
            <a:br>
              <a:rPr sz="3300"/>
            </a:b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Verwendung: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8" name="Picture 3" descr=""/>
          <p:cNvPicPr/>
          <p:nvPr/>
        </p:nvPicPr>
        <p:blipFill>
          <a:blip r:embed="rId1"/>
          <a:stretch/>
        </p:blipFill>
        <p:spPr>
          <a:xfrm>
            <a:off x="2476440" y="7391520"/>
            <a:ext cx="7183440" cy="5652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" descr=""/>
          <p:cNvPicPr/>
          <p:nvPr/>
        </p:nvPicPr>
        <p:blipFill>
          <a:blip r:embed="rId2"/>
          <a:stretch/>
        </p:blipFill>
        <p:spPr>
          <a:xfrm>
            <a:off x="2489040" y="8470800"/>
            <a:ext cx="7147080" cy="5209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5" descr=""/>
          <p:cNvPicPr/>
          <p:nvPr/>
        </p:nvPicPr>
        <p:blipFill>
          <a:blip r:embed="rId3"/>
          <a:stretch/>
        </p:blipFill>
        <p:spPr>
          <a:xfrm>
            <a:off x="2832120" y="5575320"/>
            <a:ext cx="620244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CE62-615C-48D4-A07A-8A636929DDC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/XML-Syntax: Basis-URI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rbeit mit Basis-URIs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kennung relativer URIs an Abwesenheit eines Schemateil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2195640" y="2857680"/>
            <a:ext cx="9316800" cy="292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E2B0-5DE5-40A4-A7EC-4CBD1A2FB53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6FFF-219A-498A-992E-BAB0B640485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- Abstrak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7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 xsd:decima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zgl. xsd:decimal gilt "3.14"="+03.14"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zgl. xsd:string nicht!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1" name="Oval 3"/>
          <p:cNvSpPr/>
          <p:nvPr/>
        </p:nvSpPr>
        <p:spPr>
          <a:xfrm>
            <a:off x="1930320" y="3835440"/>
            <a:ext cx="2540160" cy="4114800"/>
          </a:xfrm>
          <a:prstGeom prst="ellipse">
            <a:avLst/>
          </a:prstGeom>
          <a:solidFill>
            <a:srgbClr val="fffb5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Oval 4"/>
          <p:cNvSpPr/>
          <p:nvPr/>
        </p:nvSpPr>
        <p:spPr>
          <a:xfrm>
            <a:off x="8928000" y="4305240"/>
            <a:ext cx="2502000" cy="3505320"/>
          </a:xfrm>
          <a:prstGeom prst="ellipse">
            <a:avLst/>
          </a:prstGeom>
          <a:solidFill>
            <a:srgbClr val="fffb5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8614800" y="2886480"/>
            <a:ext cx="3382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erteberei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235440" y="2886480"/>
            <a:ext cx="5106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lexikalischer Berei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9711720" y="4649040"/>
            <a:ext cx="60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3,14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9635400" y="5766840"/>
            <a:ext cx="52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-2,5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Rectangle 9"/>
          <p:cNvSpPr/>
          <p:nvPr/>
        </p:nvSpPr>
        <p:spPr>
          <a:xfrm>
            <a:off x="9879840" y="6985800"/>
            <a:ext cx="52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Rectangle 10"/>
          <p:cNvSpPr/>
          <p:nvPr/>
        </p:nvSpPr>
        <p:spPr>
          <a:xfrm>
            <a:off x="2678040" y="4141080"/>
            <a:ext cx="854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3.14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Rectangle 11"/>
          <p:cNvSpPr/>
          <p:nvPr/>
        </p:nvSpPr>
        <p:spPr>
          <a:xfrm>
            <a:off x="2418120" y="4763520"/>
            <a:ext cx="137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3.14000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Rectangle 12"/>
          <p:cNvSpPr/>
          <p:nvPr/>
        </p:nvSpPr>
        <p:spPr>
          <a:xfrm>
            <a:off x="2821680" y="558900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+03.14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3034440" y="6414480"/>
            <a:ext cx="77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-2.5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Rectangle 14"/>
          <p:cNvSpPr/>
          <p:nvPr/>
        </p:nvSpPr>
        <p:spPr>
          <a:xfrm>
            <a:off x="2504160" y="718920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100.00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Line 15"/>
          <p:cNvSpPr/>
          <p:nvPr/>
        </p:nvSpPr>
        <p:spPr>
          <a:xfrm flipH="1" flipV="1">
            <a:off x="3632040" y="4287960"/>
            <a:ext cx="5997600" cy="45720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Line 16"/>
          <p:cNvSpPr/>
          <p:nvPr/>
        </p:nvSpPr>
        <p:spPr>
          <a:xfrm flipH="1">
            <a:off x="3822480" y="4846680"/>
            <a:ext cx="5824440" cy="13968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Line 17"/>
          <p:cNvSpPr/>
          <p:nvPr/>
        </p:nvSpPr>
        <p:spPr>
          <a:xfrm flipH="1">
            <a:off x="4025520" y="4948200"/>
            <a:ext cx="5638680" cy="80028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Line 18"/>
          <p:cNvSpPr/>
          <p:nvPr/>
        </p:nvSpPr>
        <p:spPr>
          <a:xfrm flipH="1">
            <a:off x="3846600" y="6014880"/>
            <a:ext cx="5783040" cy="62244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Line 19"/>
          <p:cNvSpPr/>
          <p:nvPr/>
        </p:nvSpPr>
        <p:spPr>
          <a:xfrm flipH="1">
            <a:off x="3804840" y="7183440"/>
            <a:ext cx="6078600" cy="18576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Rectangle 20"/>
          <p:cNvSpPr/>
          <p:nvPr/>
        </p:nvSpPr>
        <p:spPr>
          <a:xfrm>
            <a:off x="4316040" y="3673800"/>
            <a:ext cx="4844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atentypabbildu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F222-FD1C-4065-A0C7-8C2F0CE3D31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i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isher: Literale ungetypt, wie Zeichenketten behandelt (also z.B.: "02"&lt;"100"&lt;"11"&lt;"2"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ypung erlaubt besseren (semantischen = bedeutungsgemäßen) Umgang mit Wer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 werden durch URIs identifiziert und sind im Prinzip frei wählba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äufig: Verwendung von xsd-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wert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^^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typ-URI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99AB-8BAF-4F00-8EDA-4A486CC2972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in RDF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43080" y="20318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XM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3238560" y="2171880"/>
            <a:ext cx="9563040" cy="23968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3174840" y="5181480"/>
            <a:ext cx="8021880" cy="12826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" descr=""/>
          <p:cNvPicPr/>
          <p:nvPr/>
        </p:nvPicPr>
        <p:blipFill>
          <a:blip r:embed="rId3"/>
          <a:stretch/>
        </p:blipFill>
        <p:spPr>
          <a:xfrm>
            <a:off x="3200400" y="6946920"/>
            <a:ext cx="793908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8C45-1BBA-4B6F-AB6B-77A7A01360A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vordefinierte Datentyp</a:t>
            </a: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	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:XMLLiteral ist einziger vordefinierter Datentyp in RD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zeichnet beliebige (balancierte) XML-Fragment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 RDF/XML besondere Syntax zur eindeutigen Darstellung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1" name="Picture 3" descr=""/>
          <p:cNvPicPr/>
          <p:nvPr/>
        </p:nvPicPr>
        <p:blipFill>
          <a:blip r:embed="rId1"/>
          <a:stretch/>
        </p:blipFill>
        <p:spPr>
          <a:xfrm>
            <a:off x="1905120" y="6718320"/>
            <a:ext cx="9740880" cy="287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5D9B-8B8D-4B74-9571-E6E936BF26D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9347-E6E3-4BF0-B415-1AF0AA2D8C8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prachangaben und Datentyp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prachinformationen beeinflussen nur ungetypte Litera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XM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5" name="Picture 3" descr=""/>
          <p:cNvPicPr/>
          <p:nvPr/>
        </p:nvPicPr>
        <p:blipFill>
          <a:blip r:embed="rId1"/>
          <a:stretch/>
        </p:blipFill>
        <p:spPr>
          <a:xfrm>
            <a:off x="1739880" y="5270400"/>
            <a:ext cx="11176200" cy="16765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"/>
          <p:cNvPicPr/>
          <p:nvPr/>
        </p:nvPicPr>
        <p:blipFill>
          <a:blip r:embed="rId2"/>
          <a:stretch/>
        </p:blipFill>
        <p:spPr>
          <a:xfrm>
            <a:off x="1714680" y="7848720"/>
            <a:ext cx="10921680" cy="91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1F0F-818A-4956-8D25-82F3FE28550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prachangaben und Datentyp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nach RDF-Spezifikation sind demnach die folgenden Literale unterschiedlic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...werden aber häufig (intuitionsgemäß) als gleich implementier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1"/>
          <a:stretch/>
        </p:blipFill>
        <p:spPr>
          <a:xfrm>
            <a:off x="1816200" y="3568680"/>
            <a:ext cx="1042668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F809-304B-471B-B723-05EC67F8E53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C111-5A50-4EAC-848D-CDD30228FDC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ochen mit RD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Für die Zubereitung von Chutney benötigt man 450g grüne Mango, einen Teelöffel Cayennepfeffer, ...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rster Modellierungsversuch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icht zufriedenstellend: Zutaten samt Menge als Zeichenkette. Suche nach Rezepten, die grüne Mango beinhalten, so nicht möglich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67" name="Picture 3" descr=""/>
          <p:cNvPicPr/>
          <p:nvPr/>
        </p:nvPicPr>
        <p:blipFill>
          <a:blip r:embed="rId1"/>
          <a:stretch/>
        </p:blipFill>
        <p:spPr>
          <a:xfrm>
            <a:off x="2030400" y="5499000"/>
            <a:ext cx="10277640" cy="81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0410-400A-4481-89A1-A2B366C05E3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ochen mit RD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Für die Zubereitung von Chutney benötigt man 450g grüne Mango, einen Teelöffel Cayennepfeffer, ...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zweiter Modellierungsversuch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überhaupt nicht zufriedenstellend: keine eindeutige Zuordnung von konkreter Zutat und Menge mehr möglich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71" name="Picture 3" descr=""/>
          <p:cNvPicPr/>
          <p:nvPr/>
        </p:nvPicPr>
        <p:blipFill>
          <a:blip r:embed="rId1"/>
          <a:stretch/>
        </p:blipFill>
        <p:spPr>
          <a:xfrm>
            <a:off x="2082960" y="5308560"/>
            <a:ext cx="10605960" cy="134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363E-CBA7-47B8-9053-1CBFE69BBD9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blem: es handelt sich um eine echte dreiwertige (auch: ternäre) Beziehung (s. z.B. Datenbank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rekte Darstellung in RDF nicht möglich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: Einführung von Hilfs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2859120" y="4356000"/>
          <a:ext cx="7264440" cy="2055960"/>
        </p:xfrm>
        <a:graphic>
          <a:graphicData uri="http://schemas.openxmlformats.org/drawingml/2006/table">
            <a:tbl>
              <a:tblPr/>
              <a:tblGrid>
                <a:gridCol w="2101680"/>
                <a:gridCol w="3367080"/>
                <a:gridCol w="17956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erich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Zuta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Meng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hut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rüne Man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450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hut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ayennepfeff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 T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08B8-0EAF-4B88-8115-0EB183F7B93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lfsknoten in RDF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 Graph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-Syntax (mit Verwendung von rdf:value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2324160" y="3733920"/>
            <a:ext cx="9423360" cy="19177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2093760" y="6921360"/>
            <a:ext cx="103791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350A-9C86-4E00-BD75-735488AD0B3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C43E-5C61-40BF-B1C6-9AAD7945493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 (blank nodes, bnodes) können für Ressourcen verwendet werden, die nicht benannt werden müssen (z.B. Hilfsknot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önnen als Existenzaussagen gelesen werd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 Grap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2603520" y="7404120"/>
            <a:ext cx="8869320" cy="1816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AC94-0427-40DF-9332-C7A636FAA7F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/XML-Syntax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kürz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91" name="Picture 3" descr=""/>
          <p:cNvPicPr/>
          <p:nvPr/>
        </p:nvPicPr>
        <p:blipFill>
          <a:blip r:embed="rId1"/>
          <a:stretch/>
        </p:blipFill>
        <p:spPr>
          <a:xfrm>
            <a:off x="2489040" y="7264440"/>
            <a:ext cx="8817120" cy="21668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4" descr=""/>
          <p:cNvPicPr/>
          <p:nvPr/>
        </p:nvPicPr>
        <p:blipFill>
          <a:blip r:embed="rId2"/>
          <a:stretch/>
        </p:blipFill>
        <p:spPr>
          <a:xfrm>
            <a:off x="2487600" y="3733920"/>
            <a:ext cx="8809200" cy="2543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3C4E-CBB5-4D16-925B-9BE550FF2AB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1EEB-69CF-48AE-A00B-4A36417C41E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kürz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96" name="Picture 3" descr=""/>
          <p:cNvPicPr/>
          <p:nvPr/>
        </p:nvPicPr>
        <p:blipFill>
          <a:blip r:embed="rId1"/>
          <a:stretch/>
        </p:blipFill>
        <p:spPr>
          <a:xfrm>
            <a:off x="2805120" y="3670200"/>
            <a:ext cx="9640800" cy="12733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4" descr=""/>
          <p:cNvPicPr/>
          <p:nvPr/>
        </p:nvPicPr>
        <p:blipFill>
          <a:blip r:embed="rId2"/>
          <a:stretch/>
        </p:blipFill>
        <p:spPr>
          <a:xfrm>
            <a:off x="2832120" y="6273720"/>
            <a:ext cx="9575640" cy="1244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01E6-3AE0-4178-9EDC-6D31F028AD6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8755-A7BB-4202-ACB9-545E2F8E939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82680" y="1854000"/>
            <a:ext cx="11531520" cy="794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gemeine Datenstrukturen zur Aufzählung von beliebig vielen Ressourcen (Reihenfolge relevant), z.B. Autoren eines Buch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nterscheidung zwisch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6648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ffenen Listen (Container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inzufügen von neuen Einträgen mögli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6648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schlossenen Listen (Collections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inzufügen von  neuen Einträgen nicht mögli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önnen auch mit bereits vorgestellten Ausdrucksmitteln modelliert werden, also keine zusätzliche Ausdrucksstärke!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5C29-624B-4FDB-A2BB-D1434B278D1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ffene Listen (Container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 in RDF/XM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7" name="Picture 3" descr=""/>
          <p:cNvPicPr/>
          <p:nvPr/>
        </p:nvPicPr>
        <p:blipFill>
          <a:blip r:embed="rId1"/>
          <a:stretch/>
        </p:blipFill>
        <p:spPr>
          <a:xfrm>
            <a:off x="2171880" y="2755800"/>
            <a:ext cx="8650080" cy="28069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" descr=""/>
          <p:cNvPicPr/>
          <p:nvPr/>
        </p:nvPicPr>
        <p:blipFill>
          <a:blip r:embed="rId2"/>
          <a:stretch/>
        </p:blipFill>
        <p:spPr>
          <a:xfrm>
            <a:off x="2860560" y="6642000"/>
            <a:ext cx="7274160" cy="279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64BB-2A5D-4A83-B539-1FA396DC962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ypen offener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ia rdf:type wird dem Listen-Wurzelknoten ein Listentyp zugewiese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Seq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erpretation als geordnete Liste (Sequenz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Ba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erpretation als ungeordnete Meng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 RDF kodierte Reihenfolge nicht von Belang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Al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nge alternativer Möglichkeit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m Regelfall immer nur ein Listeneintrag releva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349D-6107-4444-97BD-09C3F7D071D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eschlossene Listen (Collections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826560" indent="-5310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-5310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dee: rekursive Zerlegung der Liste in Kopfelement und (möglicherweise leere) Restliste.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15" name="Picture 3" descr=""/>
          <p:cNvPicPr/>
          <p:nvPr/>
        </p:nvPicPr>
        <p:blipFill>
          <a:blip r:embed="rId1"/>
          <a:stretch/>
        </p:blipFill>
        <p:spPr>
          <a:xfrm>
            <a:off x="2755800" y="2324160"/>
            <a:ext cx="8690040" cy="51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5339-1492-4D8E-B619-8715AD1A1B1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eschlossene Listen (Collections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/XML-Syntax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1917720" y="3009960"/>
            <a:ext cx="10258560" cy="29844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4" descr=""/>
          <p:cNvPicPr/>
          <p:nvPr/>
        </p:nvPicPr>
        <p:blipFill>
          <a:blip r:embed="rId2"/>
          <a:stretch/>
        </p:blipFill>
        <p:spPr>
          <a:xfrm>
            <a:off x="1890720" y="7543800"/>
            <a:ext cx="10858320" cy="120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ECFF-0DA0-4ABF-9D10-DD102A8A80F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erbreitungsgrad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eute existiert Vielzahl von RDF-Tool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grammier-Bibliotheken für praktisch jede Programmiersprach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rei verfügbare Systeme zum Umgang mit großen RDF-Datenmengen (sogenannte RDF Stores oder Triple Stores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uch kommerzielle Anbieter (z.B. Oracle) unterstützen zunehmend RD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undlage für Datenformate: RSS 1.0, XMP (Adobe), SVG (Vektorgrafikformat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E083-7535-4603-9EF1-7207B3E1806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wertung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itläufig unterstützter Standard für Speicherung und Austausch von Da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möglicht weitgehend syntaxunabhängige Darstellung verteilter Informationen in graphbasiertem 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nes RDF sehr "individuenorientiert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aum Möglichkeiten zur Kodierung von Schemawi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Zapf Dingbats"/>
              </a:rPr>
              <a:t>➜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Zapf Dingbats"/>
              </a:rPr>
              <a:t>RDF Schema (nächste Vorlesung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4927-5431-4FDA-B3BB-C7CBFB848FC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g-Namen ambig (durch Namespaces und URIs behebbar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aumstruktur nicht optimal fü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uitive Beschreibung der Dat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formationsintegra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 wie kodiert man in einem Baum den Fakt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Das Buch 'Semantic Web - Grundlagen' wird beim Springer-Verlag verlegt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Unzulänglichkeiten von XML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5618-B6B7-49AF-8F52-7B0227F56DE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odellierungsprobleme in XM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Das Buch 'Semantic Web - Grundlagen' wird beim Springer-Verlag verlegt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                                  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tc. ...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1143000" y="3600360"/>
            <a:ext cx="7429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t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ag&gt;Springer-Verlag&lt;/Verlag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Buch&gt;Semantic Web - Grundlagen&lt;/Buch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Verlegt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5816520" y="5213520"/>
            <a:ext cx="74296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ag Name="Springer-Verlag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t Buch="Semantic Web - Grundlagen/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Verlag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1143000" y="6927840"/>
            <a:ext cx="74296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Buch Name="Semantic Web - Grundlagen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er Verlag="Springer-Verlag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Buch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708B-59B8-4A2F-A3DA-E354713EB6F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: Graphen statt Bäu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: Darstellung durch (gerichtete Graph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1422360" y="5334120"/>
            <a:ext cx="11215800" cy="96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612C-C1DF-469F-8956-946CB3E4925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12CF-2AC6-4D2D-BBC2-80C3430FD9F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lgemeines zu RDF</a:t>
            </a:r>
            <a:br>
              <a:rPr sz="6200"/>
            </a:b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“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urce Description Framework”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3C Recommendation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</a:t>
            </a:r>
            <a:r>
              <a:rPr b="0" lang="en-US" sz="42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w3.org/RDF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ist ein 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rsprünglich: zur Angabe von Metadaten für Web-Ressourcen, später allgemeine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odiert strukturierte Informationen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niverselles, maschinenlesbares Austauschform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23:24:53Z</dcterms:created>
  <dc:creator/>
  <dc:description/>
  <cp:keywords/>
  <dc:language>en-US</dc:language>
  <cp:lastModifiedBy>Sebastian Rudolph</cp:lastModifiedBy>
  <dcterms:modified xsi:type="dcterms:W3CDTF">2008-11-05T15:12:55Z</dcterms:modified>
  <cp:revision>8</cp:revision>
  <dc:subject/>
  <dc:title>Grundlagen Semantic Web</dc:title>
</cp:coreProperties>
</file>